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DD9E-8A4F-4559-B00B-483667BD60AA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257-B556-4D82-AAF3-3FE7B562BDDD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99D-8C12-4D7D-96CB-433AD2E8D9E6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96C0-2003-4D09-A46B-43405E19ABD1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A9E-7577-4C14-8025-7BBA42B92062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27A-3687-4265-9CB1-BF55FA2532FD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03ED-496F-49CA-A77A-A704EC70C5AB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CAF4-BC64-43B9-8A55-6F5A22AD0CDC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E6D-517E-4D88-BFC5-93466757ED73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52CE-283D-4057-BF79-E05C5A91D41E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6230880" y="34920"/>
            <a:ext cx="2932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5"/>
          <p:cNvGrpSpPr/>
          <p:nvPr/>
        </p:nvGrpSpPr>
        <p:grpSpPr>
          <a:xfrm>
            <a:off x="27000" y="5535720"/>
            <a:ext cx="9009000" cy="1278000"/>
            <a:chOff x="27000" y="5535720"/>
            <a:chExt cx="9009000" cy="1278000"/>
          </a:xfrm>
        </p:grpSpPr>
        <p:sp>
          <p:nvSpPr>
            <p:cNvPr id="4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17520" y="5643720"/>
              <a:ext cx="438120" cy="474840"/>
            </a:xfrm>
            <a:prstGeom prst="rect">
              <a:avLst/>
            </a:prstGeom>
            <a:solidFill>
              <a:srgbClr val="e6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00200" y="56437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e67d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41360" y="6066000"/>
              <a:ext cx="422280" cy="47484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11080" y="60660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62040" y="5535720"/>
              <a:ext cx="31680" cy="1052640"/>
            </a:xfrm>
            <a:prstGeom prst="rect">
              <a:avLst/>
            </a:prstGeom>
            <a:solidFill>
              <a:srgbClr val="e32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>
              <a:off x="343080" y="63572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1185120" y="6443640"/>
            <a:ext cx="7890480" cy="406440"/>
            <a:chOff x="1185120" y="6443640"/>
            <a:chExt cx="7890480" cy="406440"/>
          </a:xfrm>
        </p:grpSpPr>
        <p:sp>
          <p:nvSpPr>
            <p:cNvPr id="14" name="Rectangle 16"/>
            <p:cNvSpPr/>
            <p:nvPr/>
          </p:nvSpPr>
          <p:spPr>
            <a:xfrm>
              <a:off x="1185120" y="6485040"/>
              <a:ext cx="64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707173"/>
                  </a:solidFill>
                  <a:latin typeface="Arial"/>
                </a:rPr>
                <a:t>Moylish Pk. Limerick Ireland T. +353 61 208208 F. +353 61 208209 E. information@lit.ie</a:t>
              </a:r>
              <a:endParaRPr b="0" lang="en-US" sz="12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610400" y="6443640"/>
              <a:ext cx="1465200" cy="406440"/>
              <a:chOff x="7610400" y="6443640"/>
              <a:chExt cx="1465200" cy="406440"/>
            </a:xfrm>
          </p:grpSpPr>
          <p:pic>
            <p:nvPicPr>
              <p:cNvPr id="16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10400" y="6443640"/>
                <a:ext cx="92232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1640" y="6445080"/>
                <a:ext cx="4539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2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302520" y="1440"/>
            <a:ext cx="2679480" cy="9795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27000" y="5535720"/>
            <a:ext cx="9090000" cy="1325520"/>
            <a:chOff x="27000" y="5535720"/>
            <a:chExt cx="9090000" cy="1325520"/>
          </a:xfrm>
        </p:grpSpPr>
        <p:sp>
          <p:nvSpPr>
            <p:cNvPr id="56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58" name="Group 8"/>
            <p:cNvGrpSpPr/>
            <p:nvPr/>
          </p:nvGrpSpPr>
          <p:grpSpPr>
            <a:xfrm>
              <a:off x="317520" y="5643720"/>
              <a:ext cx="711360" cy="474480"/>
              <a:chOff x="317520" y="5643720"/>
              <a:chExt cx="711360" cy="474480"/>
            </a:xfrm>
          </p:grpSpPr>
          <p:sp>
            <p:nvSpPr>
              <p:cNvPr id="59" name="Rectangle 9"/>
              <p:cNvSpPr/>
              <p:nvPr/>
            </p:nvSpPr>
            <p:spPr>
              <a:xfrm>
                <a:off x="317520" y="5643720"/>
                <a:ext cx="438120" cy="474480"/>
              </a:xfrm>
              <a:prstGeom prst="rect">
                <a:avLst/>
              </a:prstGeom>
              <a:solidFill>
                <a:srgbClr val="e6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700200" y="564372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e67d00"/>
                  </a:gs>
                  <a:gs pos="100000">
                    <a:srgbClr val="e3211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</p:grpSp>
        <p:sp>
          <p:nvSpPr>
            <p:cNvPr id="61" name="Rectangle 11"/>
            <p:cNvSpPr/>
            <p:nvPr/>
          </p:nvSpPr>
          <p:spPr>
            <a:xfrm>
              <a:off x="441360" y="6066000"/>
              <a:ext cx="422280" cy="47448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811080" y="6066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662040" y="5535720"/>
              <a:ext cx="31680" cy="10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 flipV="1">
              <a:off x="343080" y="63579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66" name="Group 16"/>
            <p:cNvGrpSpPr/>
            <p:nvPr/>
          </p:nvGrpSpPr>
          <p:grpSpPr>
            <a:xfrm>
              <a:off x="1185120" y="6443640"/>
              <a:ext cx="7931880" cy="417600"/>
              <a:chOff x="1185120" y="6443640"/>
              <a:chExt cx="7931880" cy="417600"/>
            </a:xfrm>
          </p:grpSpPr>
          <p:sp>
            <p:nvSpPr>
              <p:cNvPr id="67" name="Rectangle 17"/>
              <p:cNvSpPr/>
              <p:nvPr/>
            </p:nvSpPr>
            <p:spPr>
              <a:xfrm>
                <a:off x="1185120" y="6485040"/>
                <a:ext cx="642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200" spc="-1" strike="noStrike">
                    <a:solidFill>
                      <a:srgbClr val="ffffff"/>
                    </a:solidFill>
                    <a:latin typeface="Arial"/>
                  </a:rPr>
                  <a:t>Moylish Pk. Limerick Ireland T. +353 61 208208 F. +353 61 208209 E. information@lit.ie</a:t>
                </a:r>
                <a:endParaRPr b="0" lang="en-US" sz="12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pic>
            <p:nvPicPr>
              <p:cNvPr id="68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6240" y="6443640"/>
                <a:ext cx="1490760" cy="41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Text Box 19"/>
          <p:cNvSpPr/>
          <p:nvPr/>
        </p:nvSpPr>
        <p:spPr>
          <a:xfrm>
            <a:off x="3758760" y="57736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E8D5-2C0E-412F-9EF5-24BCD7403DC2}" type="datetime">
              <a:rPr b="0" lang="en-IE" sz="2400" spc="-1" strike="noStrike">
                <a:solidFill>
                  <a:srgbClr val="ffffff"/>
                </a:solidFill>
                <a:latin typeface="Dolly"/>
              </a:rPr>
              <a:t>29/07/26</a:t>
            </a:fld>
            <a:endParaRPr b="0" lang="en-US" sz="24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ac.ie/" TargetMode="External"/><Relationship Id="rId2" Type="http://schemas.openxmlformats.org/officeDocument/2006/relationships/hyperlink" Target="http://www.gttr.ac.uk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ospects.ac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terson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stgradireland.com/" TargetMode="External"/><Relationship Id="rId2" Type="http://schemas.openxmlformats.org/officeDocument/2006/relationships/hyperlink" Target="http://www.qualifax.ie/" TargetMode="External"/><Relationship Id="rId3" Type="http://schemas.openxmlformats.org/officeDocument/2006/relationships/hyperlink" Target="http://www.prospects.ac.uk/" TargetMode="External"/><Relationship Id="rId4" Type="http://schemas.openxmlformats.org/officeDocument/2006/relationships/hyperlink" Target="http://www.gttr.ac.uk/" TargetMode="External"/><Relationship Id="rId5" Type="http://schemas.openxmlformats.org/officeDocument/2006/relationships/hyperlink" Target="http://www.studyoptions.com/" TargetMode="External"/><Relationship Id="rId6" Type="http://schemas.openxmlformats.org/officeDocument/2006/relationships/hyperlink" Target="http://www.petersons.com/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udentfinance.ie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ac.ie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Dolly SmallCaps"/>
              </a:rPr>
              <a:t>Planning for Postgraduate Study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ffffff"/>
              </a:solidFill>
              <a:latin typeface="Dolly SmallCap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ostgraduate Diploma in Edu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1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NUI Colleges – UCC, NUI Maynooth, NUI Galway, UCD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through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ac.i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: 1</a:t>
            </a:r>
            <a:r>
              <a:rPr b="0" lang="en-IE" sz="18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 December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2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ostgrad Diploma in Education in DCU, UL &amp; Trinity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directly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s : early March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3 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rimary Teaching – starts in January, closing date November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4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GCE in the UK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through –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ttr.ac.uk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s: 1</a:t>
            </a:r>
            <a:r>
              <a:rPr b="0" lang="en-IE" sz="18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 Dec (Primary) Ongoing (Secondary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a171b"/>
                </a:solidFill>
                <a:latin typeface="Arial"/>
              </a:rPr>
              <a:t>Studying abroad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Exposure to new learning environments and cultur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Use of research libraries in key locations – for example Lond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Opportunity to meet and study with overseas students at post graduate level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Contact and network buildin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UK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ew closing dates for applications </a:t>
            </a:r>
            <a:r>
              <a:rPr b="0" lang="en-IE" sz="2000" spc="-1" strike="noStrike" u="sng">
                <a:solidFill>
                  <a:srgbClr val="1a171b"/>
                </a:solidFill>
                <a:uFillTx/>
                <a:latin typeface="Arial"/>
              </a:rPr>
              <a:t>except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medicine, law &amp; teacher trainin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ion often based on interview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laces filled on a first come basi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sts - £3,000 - £6,000 tuition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arch for courses :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spects.ac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Postgraduate Study USA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Application Procedure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Universiti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1a171b"/>
                </a:solidFill>
                <a:latin typeface="Arial"/>
              </a:rPr>
              <a:t>Check directories and websites (</a:t>
            </a:r>
            <a:r>
              <a:rPr b="0" lang="en-IE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tersons.com</a:t>
            </a:r>
            <a:r>
              <a:rPr b="0" i="1" lang="en-IE" sz="1600" spc="-1" strike="noStrike">
                <a:solidFill>
                  <a:srgbClr val="1a171b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1a171b"/>
                </a:solidFill>
                <a:latin typeface="Arial"/>
              </a:rPr>
              <a:t>Check Fulbright websi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 realistic choice: 3-7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quest Application Material ($30 - $100 fee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gister for Tests GRE, GMA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mpile application material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Statement of Purpose (Fulbright guidelines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References: 2/3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Complete application and apply for financial aid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heck visa requirements (US Embassy website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unding for Postgraduate Study Oversea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British Council, Research Council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tudent Awards Agency for Scotlan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cholarships for Irish graduat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Government-funded International Scholar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Marie Curie Founda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German Academic Exchange Scholar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llege of Europe, European University Institu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ulbright Award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O’Reilly Foundation; John F Kennedy Fun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niversity Scholarships and Assistant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.g. Conlisk MBA Scholarship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Where to look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640" y="1071360"/>
            <a:ext cx="7200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Ireland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ostgradireland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qualifax.ie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UK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ospects.ac.uk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ttr.ac.uk</a:t>
            </a: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Australia &amp; New Zealand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udyoptions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USA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petersons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ww.fulbright.ie 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Sources of Information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lit.ie/career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ostgradireland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ac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hea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rospects.ac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educationlink.org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britishcouncil.or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fulbright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fulbright.co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eurograduate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etersons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idp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ontact Detail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Joanne Hollan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areers Offic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Block 12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el: 061 208295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Email: careers@lit.i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03576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Planning for Postgraduate Study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643040"/>
            <a:ext cx="7200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y Postgraduate Study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ypes of Cours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iming &amp; Lo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How Much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tudying Abroa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y Postgraduate Study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at are your goals?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areer objectives / plan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mployment prospec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terest in the academic area / academi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rofessional requiremen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nvert to a new are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ncertainty/recommendation of other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Key issues you need to think about…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ufficient motiva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cademic ability, suitability and your need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a171b"/>
                </a:solidFill>
                <a:latin typeface="Arial"/>
              </a:rPr>
              <a:t>Time and mone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Types of Postgraduate Courses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aught versus Research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aught Grad Diplomas/Masters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Full-time/part-time/bloc releas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onversion courses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Development of an academic specialism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ntry requirements vary (2.2 Hons. plus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ntry requirements: usually 1st &amp; 2nd Class Hons. degrees 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Full-time and part-tim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May include some taught elements (methodology, etc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Research proposal and plan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Masters: 1-3 years (60,000 words); PhD: 3-5 years (100,000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Converting your degree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Study for a PG Diploma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Allow you to “convert” to a new disciplin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Something completely different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ay compliment your degre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e.g. social care to speech therapy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e.g. science to medical school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Timing and Location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en to study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your first degree … easiest 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a brea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working full-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While still working full or part-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ere to study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 Ireland: Limerick or elsewhere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Overseas: planning and timefra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dvantages/disadvantages of moving institu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ersonal/professional consideration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Evaluate what is on offer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37814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ype of cours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Number of plac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ion criteri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losing da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mployment recor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ees and financ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00160"/>
            <a:ext cx="40669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ize of Departmen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interes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ype of supervis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aciliti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side stor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ublishing righ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5843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How much?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uition Fees - €2,500 - €27,000 depending on your discipline and institu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CT Courses covered by the Graduate Skills Conversion Programme - €1,600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Higher Education Grants &amp; VEC Scholarships apply for full-time approved Postgrad courses of 1 year or mor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                  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reland &amp; Northern Ireland ONL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More information: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udentfinance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pply directly to the institution using their official Postgrad application for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nsure you have the necessary documentation – references, transcripts etc.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ome Universities use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ac.ie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for on-line applications (</a:t>
            </a: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DCU, NUI Galway, UCC and DIT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Success often based on an interview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losing Dates vary – December to Jun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e.g. PGDE – 1</a:t>
            </a:r>
            <a:r>
              <a:rPr b="0" lang="en-IE" sz="16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 December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Majority are February to June but refer directly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24:13Z</dcterms:created>
  <dc:creator>joanne.holland</dc:creator>
  <dc:description/>
  <dc:language>en-US</dc:language>
  <cp:lastModifiedBy>joanne.holland</cp:lastModifiedBy>
  <dcterms:modified xsi:type="dcterms:W3CDTF">2009-01-29T11:25:22Z</dcterms:modified>
  <cp:revision>11</cp:revision>
  <dc:subject/>
  <dc:title>Planning for Postgraduate Study</dc:title>
</cp:coreProperties>
</file>