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EAF0-C112-4491-BD89-2E129AE60657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AD2-2549-4197-B109-B705643BBF30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8EE-349E-4BC3-8ED2-5D65B0ED7AE7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8017-423E-4D3E-9EC9-9715E66E22F5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03B0-A8F3-47BA-941D-6299D4472448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B4C4-A82E-4A09-8137-FEEF51CE24A4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CBD4-136E-4294-AF11-721DB72E403D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9689-E80A-4ACD-9D4B-25DC7751FFB4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BA23-891A-4144-980A-DEA1494B1753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01D-99FC-45B5-A50F-E307CE50812A}" type="slidenum">
              <a:rPr b="0" lang="en-GB" sz="1200" spc="-1" strike="noStrike">
                <a:solidFill>
                  <a:srgbClr val="7071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0632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4100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7164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0632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4100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58435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0632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41000" y="126792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97164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0632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41000" y="3750480"/>
            <a:ext cx="2318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58435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1280" y="375048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1280" y="1267920"/>
            <a:ext cx="35136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640" y="3750480"/>
            <a:ext cx="7200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71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6230880" y="34920"/>
            <a:ext cx="2932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5"/>
          <p:cNvGrpSpPr/>
          <p:nvPr/>
        </p:nvGrpSpPr>
        <p:grpSpPr>
          <a:xfrm>
            <a:off x="27000" y="5535720"/>
            <a:ext cx="9009000" cy="1278000"/>
            <a:chOff x="27000" y="5535720"/>
            <a:chExt cx="9009000" cy="1278000"/>
          </a:xfrm>
        </p:grpSpPr>
        <p:sp>
          <p:nvSpPr>
            <p:cNvPr id="4" name="Rectangle 6"/>
            <p:cNvSpPr/>
            <p:nvPr/>
          </p:nvSpPr>
          <p:spPr>
            <a:xfrm>
              <a:off x="344520" y="6338880"/>
              <a:ext cx="438120" cy="474840"/>
            </a:xfrm>
            <a:prstGeom prst="rect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66720" y="63388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0066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17520" y="5643720"/>
              <a:ext cx="438120" cy="474840"/>
            </a:xfrm>
            <a:prstGeom prst="rect">
              <a:avLst/>
            </a:prstGeom>
            <a:solidFill>
              <a:srgbClr val="e6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700200" y="564372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e67d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41360" y="6066000"/>
              <a:ext cx="422280" cy="474840"/>
            </a:xfrm>
            <a:prstGeom prst="rect">
              <a:avLst/>
            </a:prstGeom>
            <a:solidFill>
              <a:srgbClr val="573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11080" y="6066000"/>
              <a:ext cx="368280" cy="474840"/>
            </a:xfrm>
            <a:prstGeom prst="rect">
              <a:avLst/>
            </a:prstGeom>
            <a:gradFill rotWithShape="0">
              <a:gsLst>
                <a:gs pos="0">
                  <a:srgbClr val="57378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27000" y="5950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8b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62040" y="5535720"/>
              <a:ext cx="31680" cy="1052640"/>
            </a:xfrm>
            <a:prstGeom prst="rect">
              <a:avLst/>
            </a:prstGeom>
            <a:solidFill>
              <a:srgbClr val="e321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>
              <a:off x="343080" y="63572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e32118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1185120" y="6443640"/>
            <a:ext cx="7890480" cy="406440"/>
            <a:chOff x="1185120" y="6443640"/>
            <a:chExt cx="7890480" cy="406440"/>
          </a:xfrm>
        </p:grpSpPr>
        <p:sp>
          <p:nvSpPr>
            <p:cNvPr id="14" name="Rectangle 16"/>
            <p:cNvSpPr/>
            <p:nvPr/>
          </p:nvSpPr>
          <p:spPr>
            <a:xfrm>
              <a:off x="1185120" y="6485040"/>
              <a:ext cx="642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>
                  <a:solidFill>
                    <a:srgbClr val="707173"/>
                  </a:solidFill>
                  <a:latin typeface="Arial"/>
                </a:rPr>
                <a:t>Moylish Pk. Limerick Ireland T. +353 61 208208 F. +353 61 208209 E. information@lit.ie</a:t>
              </a:r>
              <a:endParaRPr b="0" lang="en-US" sz="12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15" name="Group 17"/>
            <p:cNvGrpSpPr/>
            <p:nvPr/>
          </p:nvGrpSpPr>
          <p:grpSpPr>
            <a:xfrm>
              <a:off x="7610400" y="6443640"/>
              <a:ext cx="1465200" cy="406440"/>
              <a:chOff x="7610400" y="6443640"/>
              <a:chExt cx="1465200" cy="406440"/>
            </a:xfrm>
          </p:grpSpPr>
          <p:pic>
            <p:nvPicPr>
              <p:cNvPr id="16" name="Pictur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10400" y="6443640"/>
                <a:ext cx="92232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21640" y="6445080"/>
                <a:ext cx="4539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21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6302520" y="1440"/>
            <a:ext cx="2679480" cy="97956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5"/>
          <p:cNvGrpSpPr/>
          <p:nvPr/>
        </p:nvGrpSpPr>
        <p:grpSpPr>
          <a:xfrm>
            <a:off x="27000" y="5535720"/>
            <a:ext cx="9090000" cy="1325520"/>
            <a:chOff x="27000" y="5535720"/>
            <a:chExt cx="9090000" cy="1325520"/>
          </a:xfrm>
        </p:grpSpPr>
        <p:sp>
          <p:nvSpPr>
            <p:cNvPr id="56" name="Rectangle 6"/>
            <p:cNvSpPr/>
            <p:nvPr/>
          </p:nvSpPr>
          <p:spPr>
            <a:xfrm>
              <a:off x="344520" y="6338880"/>
              <a:ext cx="438120" cy="474840"/>
            </a:xfrm>
            <a:prstGeom prst="rect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666720" y="6338880"/>
              <a:ext cx="328680" cy="474840"/>
            </a:xfrm>
            <a:prstGeom prst="rect">
              <a:avLst/>
            </a:prstGeom>
            <a:gradFill rotWithShape="0">
              <a:gsLst>
                <a:gs pos="0">
                  <a:srgbClr val="006633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58" name="Group 8"/>
            <p:cNvGrpSpPr/>
            <p:nvPr/>
          </p:nvGrpSpPr>
          <p:grpSpPr>
            <a:xfrm>
              <a:off x="317520" y="5643720"/>
              <a:ext cx="711360" cy="474480"/>
              <a:chOff x="317520" y="5643720"/>
              <a:chExt cx="711360" cy="474480"/>
            </a:xfrm>
          </p:grpSpPr>
          <p:sp>
            <p:nvSpPr>
              <p:cNvPr id="59" name="Rectangle 9"/>
              <p:cNvSpPr/>
              <p:nvPr/>
            </p:nvSpPr>
            <p:spPr>
              <a:xfrm>
                <a:off x="317520" y="5643720"/>
                <a:ext cx="438120" cy="474480"/>
              </a:xfrm>
              <a:prstGeom prst="rect">
                <a:avLst/>
              </a:prstGeom>
              <a:solidFill>
                <a:srgbClr val="e6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700200" y="5643720"/>
                <a:ext cx="328680" cy="474480"/>
              </a:xfrm>
              <a:prstGeom prst="rect">
                <a:avLst/>
              </a:prstGeom>
              <a:gradFill rotWithShape="0">
                <a:gsLst>
                  <a:gs pos="0">
                    <a:srgbClr val="e67d00"/>
                  </a:gs>
                  <a:gs pos="100000">
                    <a:srgbClr val="e3211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</p:grpSp>
        <p:sp>
          <p:nvSpPr>
            <p:cNvPr id="61" name="Rectangle 11"/>
            <p:cNvSpPr/>
            <p:nvPr/>
          </p:nvSpPr>
          <p:spPr>
            <a:xfrm>
              <a:off x="441360" y="6066000"/>
              <a:ext cx="422280" cy="474480"/>
            </a:xfrm>
            <a:prstGeom prst="rect">
              <a:avLst/>
            </a:prstGeom>
            <a:solidFill>
              <a:srgbClr val="573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811080" y="606600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57378a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27000" y="59500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e32118"/>
                </a:gs>
                <a:gs pos="100000">
                  <a:srgbClr val="0078b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662040" y="5535720"/>
              <a:ext cx="31680" cy="10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 flipV="1">
              <a:off x="343080" y="635796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3211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707173"/>
                </a:solidFill>
                <a:latin typeface="Arial"/>
              </a:endParaRPr>
            </a:p>
          </p:txBody>
        </p:sp>
        <p:grpSp>
          <p:nvGrpSpPr>
            <p:cNvPr id="66" name="Group 16"/>
            <p:cNvGrpSpPr/>
            <p:nvPr/>
          </p:nvGrpSpPr>
          <p:grpSpPr>
            <a:xfrm>
              <a:off x="1185120" y="6443640"/>
              <a:ext cx="7931880" cy="417600"/>
              <a:chOff x="1185120" y="6443640"/>
              <a:chExt cx="7931880" cy="417600"/>
            </a:xfrm>
          </p:grpSpPr>
          <p:sp>
            <p:nvSpPr>
              <p:cNvPr id="67" name="Rectangle 17"/>
              <p:cNvSpPr/>
              <p:nvPr/>
            </p:nvSpPr>
            <p:spPr>
              <a:xfrm>
                <a:off x="1185120" y="6485040"/>
                <a:ext cx="642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200" spc="-1" strike="noStrike">
                    <a:solidFill>
                      <a:srgbClr val="ffffff"/>
                    </a:solidFill>
                    <a:latin typeface="Arial"/>
                  </a:rPr>
                  <a:t>Moylish Pk. Limerick Ireland T. +353 61 208208 F. +353 61 208209 E. information@lit.ie</a:t>
                </a:r>
                <a:endParaRPr b="0" lang="en-US" sz="1200" spc="-1" strike="noStrike">
                  <a:solidFill>
                    <a:srgbClr val="707173"/>
                  </a:solidFill>
                  <a:latin typeface="Arial"/>
                </a:endParaRPr>
              </a:p>
            </p:txBody>
          </p:sp>
          <p:pic>
            <p:nvPicPr>
              <p:cNvPr id="68" name="Pictur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6240" y="6443640"/>
                <a:ext cx="1490760" cy="41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Text Box 19"/>
          <p:cNvSpPr/>
          <p:nvPr/>
        </p:nvSpPr>
        <p:spPr>
          <a:xfrm>
            <a:off x="3758760" y="5773680"/>
            <a:ext cx="1448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2B91-F38B-43BF-8636-05975E2D9AC9}" type="datetime">
              <a:rPr b="0" lang="en-IE" sz="2400" spc="-1" strike="noStrike">
                <a:solidFill>
                  <a:srgbClr val="ffffff"/>
                </a:solidFill>
                <a:latin typeface="Dolly"/>
              </a:rPr>
              <a:t>28/07/26</a:t>
            </a:fld>
            <a:endParaRPr b="0" lang="en-US" sz="2400" spc="-1" strike="noStrike">
              <a:solidFill>
                <a:srgbClr val="707173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a171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71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ac.ie/" TargetMode="External"/><Relationship Id="rId2" Type="http://schemas.openxmlformats.org/officeDocument/2006/relationships/hyperlink" Target="http://www.gttr.ac.uk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rospects.ac.uk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etersons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ostgradireland.com/" TargetMode="External"/><Relationship Id="rId2" Type="http://schemas.openxmlformats.org/officeDocument/2006/relationships/hyperlink" Target="http://www.qualifax.ie/" TargetMode="External"/><Relationship Id="rId3" Type="http://schemas.openxmlformats.org/officeDocument/2006/relationships/hyperlink" Target="http://www.prospects.ac.uk/" TargetMode="External"/><Relationship Id="rId4" Type="http://schemas.openxmlformats.org/officeDocument/2006/relationships/hyperlink" Target="http://www.gttr.ac.uk/" TargetMode="External"/><Relationship Id="rId5" Type="http://schemas.openxmlformats.org/officeDocument/2006/relationships/hyperlink" Target="http://www.studyoptions.com/" TargetMode="External"/><Relationship Id="rId6" Type="http://schemas.openxmlformats.org/officeDocument/2006/relationships/hyperlink" Target="http://www.petersons.com/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udentfinance.ie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ac.ie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Dolly SmallCaps"/>
              </a:rPr>
              <a:t>Planning for Postgraduate Study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ffffff"/>
              </a:solidFill>
              <a:latin typeface="Dolly SmallCap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Postgraduate Diploma in Education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Option 1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NUI Colleges – UCC, NUI Maynooth, NUI Galway, UCD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Apply through </a:t>
            </a: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ac.ie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Closing Date: 1</a:t>
            </a:r>
            <a:r>
              <a:rPr b="0" lang="en-IE" sz="1800" spc="-1" strike="noStrike" baseline="30000">
                <a:solidFill>
                  <a:srgbClr val="1a171b"/>
                </a:solidFill>
                <a:latin typeface="Arial"/>
              </a:rPr>
              <a:t>st</a:t>
            </a: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 December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Option 2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Postgrad Diploma in Education in DCU, UL &amp; Trinity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Apply directly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Closing Dates : early March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Option 3 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Primary Teaching – starts in January, closing date November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Option 4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PGCE in the UK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Apply through – </a:t>
            </a: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ttr.ac.uk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Closing Dates: 1</a:t>
            </a:r>
            <a:r>
              <a:rPr b="0" lang="en-IE" sz="1800" spc="-1" strike="noStrike" baseline="30000">
                <a:solidFill>
                  <a:srgbClr val="1a171b"/>
                </a:solidFill>
                <a:latin typeface="Arial"/>
              </a:rPr>
              <a:t>st</a:t>
            </a: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 Dec (Primary) Ongoing (Secondary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a171b"/>
                </a:solidFill>
                <a:latin typeface="Arial"/>
              </a:rPr>
              <a:t>Studying abroad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Advantages: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Exposure to new learning environments and cultur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Use of research libraries in key locations – for example Lond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Opportunity to meet and study with overseas students at post graduate level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Contact and network building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UK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Few closing dates for applications </a:t>
            </a:r>
            <a:r>
              <a:rPr b="0" lang="en-IE" sz="2000" spc="-1" strike="noStrike" u="sng">
                <a:solidFill>
                  <a:srgbClr val="1a171b"/>
                </a:solidFill>
                <a:uFillTx/>
                <a:latin typeface="Arial"/>
              </a:rPr>
              <a:t>except</a:t>
            </a: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 medicine, law &amp; teacher training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election often based on interview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Places filled on a first come basi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osts - £3,000 - £6,000 tuition 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earch for courses :</a:t>
            </a: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spects.ac.u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Postgraduate Study USA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Application Procedure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search Universiti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1a171b"/>
                </a:solidFill>
                <a:latin typeface="Arial"/>
              </a:rPr>
              <a:t>Check directories and websites (</a:t>
            </a:r>
            <a:r>
              <a:rPr b="0" lang="en-IE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etersons.com</a:t>
            </a:r>
            <a:r>
              <a:rPr b="0" i="1" lang="en-IE" sz="1600" spc="-1" strike="noStrike">
                <a:solidFill>
                  <a:srgbClr val="1a171b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1a171b"/>
                </a:solidFill>
                <a:latin typeface="Arial"/>
              </a:rPr>
              <a:t>Check Fulbright websit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elect realistic choice: 3-7 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quest Application Material ($30 - $100 fee)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gister for Tests GRE, GMAT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ompile application material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a171b"/>
                </a:solidFill>
                <a:latin typeface="Arial"/>
              </a:rPr>
              <a:t>Statement of Purpose (Fulbright guidelines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a171b"/>
                </a:solidFill>
                <a:latin typeface="Arial"/>
              </a:rPr>
              <a:t>Transcripts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a171b"/>
                </a:solidFill>
                <a:latin typeface="Arial"/>
              </a:rPr>
              <a:t>References: 2/3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1a171b"/>
                </a:solidFill>
                <a:latin typeface="Arial"/>
              </a:rPr>
              <a:t>Complete application and apply for financial aid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heck visa requirements (US Embassy website)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Funding for Postgraduate Study Oversea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U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British Council, Research Council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tudent Awards Agency for Scotland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cholarships for Irish graduat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Government-funded International Scholarship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Marie Curie Foundat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German Academic Exchange Scholarship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ollege of Europe, European University Institut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Fulbright Award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O’Reilly Foundation; John F Kennedy Fund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University Scholarships and Assistantship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E.g. Conlisk MBA Scholarship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Where to look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640" y="1071360"/>
            <a:ext cx="72007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Ireland: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ostgradireland.com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qualifax.ie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UK: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rospects.ac.uk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ttr.ac.uk</a:t>
            </a: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Australia &amp; New Zealand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tudyoptions.com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USA: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petersons.com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www.fulbright.ie 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Sources of Information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lit.ie/career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postgradireland.co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pac.i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hea.i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prospects.ac.u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educationlink.org 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britishcouncil.org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fulbright.i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fulbright.co.u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eurograduate.co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petersons.co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 u="sng">
                <a:solidFill>
                  <a:srgbClr val="009999"/>
                </a:solidFill>
                <a:uFillTx/>
                <a:latin typeface="Arial"/>
              </a:rPr>
              <a:t>www.idp.co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ontact Detail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Joanne Hollan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Careers Offic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Block 12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el: 061 208295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Email: careers@lit.ie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603576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Planning for Postgraduate Study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1643040"/>
            <a:ext cx="7200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Why Postgraduate Study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ypes of Course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Timing &amp; Location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How Much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Studying Abroad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1a171b"/>
                </a:solidFill>
                <a:latin typeface="Arial"/>
              </a:rPr>
              <a:t>Why Postgraduate Study?</a:t>
            </a:r>
            <a:endParaRPr b="0" lang="en-US" sz="32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What are your goals?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areer objectives / plan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Employment prospect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nterest in the academic area / academia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Professional requirement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onvert to a new area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Uncertainty/recommendation of other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Key issues you need to think about…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ufficient motivat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cademic ability, suitability and your need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a171b"/>
                </a:solidFill>
                <a:latin typeface="Arial"/>
              </a:rPr>
              <a:t>Time and money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Types of Postgraduate Courses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aught versus Research degre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aught Grad Diplomas/Masters degre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Full-time/part-time/bloc release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Conversion courses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Development of an academic specialism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Entry requirements vary (2.2 Hons. plus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search degre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Entry requirements: usually 1st &amp; 2nd Class Hons. degrees 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Full-time and part-time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May include some taught elements (methodology, etc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Research proposal and plan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1a171b"/>
                </a:solidFill>
                <a:latin typeface="Arial"/>
              </a:rPr>
              <a:t>Masters: 1-3 years (60,000 words); PhD: 3-5 years (100,000)</a:t>
            </a:r>
            <a:endParaRPr b="0" lang="en-US" sz="1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Converting your degree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Study for a PG Diploma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Allow you to “convert” to a new discipline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Something completely different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May compliment your degree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e.g. social care to speech therapy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1a171b"/>
                </a:solidFill>
                <a:latin typeface="Arial"/>
              </a:rPr>
              <a:t>e.g. science to medical school</a:t>
            </a: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Timing and Location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When to study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fter your first degree … easiest tim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fter a break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fter working full-tim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While still working full or part-tim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a171b"/>
                </a:solidFill>
                <a:latin typeface="Arial"/>
              </a:rPr>
              <a:t>Where to study</a:t>
            </a:r>
            <a:endParaRPr b="0" lang="en-US" sz="24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n Ireland: Limerick or elsewhere 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Overseas: planning and timefram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dvantages/disadvantages of moving institut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Personal/professional consideration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Evaluate what is on offer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4240" y="2000160"/>
            <a:ext cx="37814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ype of cours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Number of plac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election criteria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losing dat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Employment record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Fees and financ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00160"/>
            <a:ext cx="406692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ize of Department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Research interest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ype of supervis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Facilitie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nside story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Publishing rights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5843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How much?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Tuition Fees - €2,500 - €27,000 depending on your discipline and institution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CT Courses covered by the Graduate Skills Conversion Programme - €1,600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Higher Education Grants &amp; VEC Scholarships apply for full-time approved Postgrad courses of 1 year or mor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                   </a:t>
            </a: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Ireland &amp; Northern Ireland ONLY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More information: </a:t>
            </a: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udentfinance.i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843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1a171b"/>
                </a:solidFill>
                <a:latin typeface="Arial"/>
              </a:rPr>
              <a:t>Applications</a:t>
            </a:r>
            <a:endParaRPr b="0" lang="en-US" sz="4000" spc="-1" strike="noStrike">
              <a:solidFill>
                <a:srgbClr val="1a171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1267920"/>
            <a:ext cx="7200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Apply directly to the institution using their official Postgrad application form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Ensure you have the necessary documentation – references, transcripts etc.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Some Universities use </a:t>
            </a:r>
            <a:r>
              <a:rPr b="0" lang="en-I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ac.ie</a:t>
            </a: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 for on-line applications (</a:t>
            </a: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DCU, NUI Galway, UCC and DIT)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171b"/>
                </a:solidFill>
                <a:latin typeface="Arial"/>
              </a:rPr>
              <a:t>Success often based on an interview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a17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a171b"/>
                </a:solidFill>
                <a:latin typeface="Arial"/>
              </a:rPr>
              <a:t>Closing Dates vary – December to June</a:t>
            </a:r>
            <a:endParaRPr b="0" lang="en-US" sz="2000" spc="-1" strike="noStrike">
              <a:solidFill>
                <a:srgbClr val="1a171b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1a171b"/>
                </a:solidFill>
                <a:latin typeface="Arial"/>
              </a:rPr>
              <a:t>e.g. PGDE – 1</a:t>
            </a:r>
            <a:r>
              <a:rPr b="0" lang="en-IE" sz="1600" spc="-1" strike="noStrike" baseline="30000">
                <a:solidFill>
                  <a:srgbClr val="1a171b"/>
                </a:solidFill>
                <a:latin typeface="Arial"/>
              </a:rPr>
              <a:t>st</a:t>
            </a:r>
            <a:r>
              <a:rPr b="0" lang="en-IE" sz="1600" spc="-1" strike="noStrike">
                <a:solidFill>
                  <a:srgbClr val="1a171b"/>
                </a:solidFill>
                <a:latin typeface="Arial"/>
              </a:rPr>
              <a:t> December</a:t>
            </a: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1a171b"/>
                </a:solidFill>
                <a:latin typeface="Arial"/>
              </a:rPr>
              <a:t>Majority are February to June but refer directly</a:t>
            </a: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a17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a17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6:24:13Z</dcterms:created>
  <dc:creator>joanne.holland</dc:creator>
  <dc:description/>
  <dc:language>en-US</dc:language>
  <cp:lastModifiedBy>joanne.holland</cp:lastModifiedBy>
  <dcterms:modified xsi:type="dcterms:W3CDTF">2009-01-29T11:25:22Z</dcterms:modified>
  <cp:revision>11</cp:revision>
  <dc:subject/>
  <dc:title>Planning for Postgraduate Study</dc:title>
</cp:coreProperties>
</file>